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18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_rels/presentation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wmf" ContentType="image/x-wmf"/>
  <Override PartName="/ppt/media/image4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</p:sldMasterIdLst>
  <p:sldIdLst>
    <p:sldId id="256" r:id="rId20"/>
    <p:sldId id="257" r:id="rId21"/>
    <p:sldId id="258" r:id="rId22"/>
    <p:sldId id="259" r:id="rId23"/>
    <p:sldId id="260" r:id="rId24"/>
    <p:sldId id="261" r:id="rId25"/>
    <p:sldId id="262" r:id="rId26"/>
    <p:sldId id="263" r:id="rId27"/>
    <p:sldId id="264" r:id="rId28"/>
    <p:sldId id="265" r:id="rId29"/>
    <p:sldId id="266" r:id="rId30"/>
    <p:sldId id="267" r:id="rId31"/>
    <p:sldId id="268" r:id="rId32"/>
    <p:sldId id="269" r:id="rId33"/>
    <p:sldId id="270" r:id="rId34"/>
    <p:sldId id="271" r:id="rId35"/>
    <p:sldId id="272" r:id="rId36"/>
    <p:sldId id="273" r:id="rId37"/>
    <p:sldId id="274" r:id="rId38"/>
    <p:sldId id="275" r:id="rId39"/>
    <p:sldId id="276" r:id="rId40"/>
    <p:sldId id="277" r:id="rId41"/>
    <p:sldId id="278" r:id="rId42"/>
    <p:sldId id="279" r:id="rId43"/>
    <p:sldId id="280" r:id="rId44"/>
    <p:sldId id="281" r:id="rId45"/>
  </p:sldIdLst>
  <p:sldSz cx="9144000" cy="6858000"/>
  <p:notesSz cx="6800850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" Target="slides/slide1.xml"/><Relationship Id="rId21" Type="http://schemas.openxmlformats.org/officeDocument/2006/relationships/slide" Target="slides/slide2.xml"/><Relationship Id="rId22" Type="http://schemas.openxmlformats.org/officeDocument/2006/relationships/slide" Target="slides/slide3.xml"/><Relationship Id="rId23" Type="http://schemas.openxmlformats.org/officeDocument/2006/relationships/slide" Target="slides/slide4.xml"/><Relationship Id="rId24" Type="http://schemas.openxmlformats.org/officeDocument/2006/relationships/slide" Target="slides/slide5.xml"/><Relationship Id="rId25" Type="http://schemas.openxmlformats.org/officeDocument/2006/relationships/slide" Target="slides/slide6.xml"/><Relationship Id="rId26" Type="http://schemas.openxmlformats.org/officeDocument/2006/relationships/slide" Target="slides/slide7.xml"/><Relationship Id="rId27" Type="http://schemas.openxmlformats.org/officeDocument/2006/relationships/slide" Target="slides/slide8.xml"/><Relationship Id="rId28" Type="http://schemas.openxmlformats.org/officeDocument/2006/relationships/slide" Target="slides/slide9.xml"/><Relationship Id="rId29" Type="http://schemas.openxmlformats.org/officeDocument/2006/relationships/slide" Target="slides/slide10.xml"/><Relationship Id="rId30" Type="http://schemas.openxmlformats.org/officeDocument/2006/relationships/slide" Target="slides/slide11.xml"/><Relationship Id="rId31" Type="http://schemas.openxmlformats.org/officeDocument/2006/relationships/slide" Target="slides/slide12.xml"/><Relationship Id="rId32" Type="http://schemas.openxmlformats.org/officeDocument/2006/relationships/slide" Target="slides/slide13.xml"/><Relationship Id="rId33" Type="http://schemas.openxmlformats.org/officeDocument/2006/relationships/slide" Target="slides/slide14.xml"/><Relationship Id="rId34" Type="http://schemas.openxmlformats.org/officeDocument/2006/relationships/slide" Target="slides/slide15.xml"/><Relationship Id="rId35" Type="http://schemas.openxmlformats.org/officeDocument/2006/relationships/slide" Target="slides/slide16.xml"/><Relationship Id="rId36" Type="http://schemas.openxmlformats.org/officeDocument/2006/relationships/slide" Target="slides/slide17.xml"/><Relationship Id="rId37" Type="http://schemas.openxmlformats.org/officeDocument/2006/relationships/slide" Target="slides/slide18.xml"/><Relationship Id="rId38" Type="http://schemas.openxmlformats.org/officeDocument/2006/relationships/slide" Target="slides/slide19.xml"/><Relationship Id="rId39" Type="http://schemas.openxmlformats.org/officeDocument/2006/relationships/slide" Target="slides/slide20.xml"/><Relationship Id="rId40" Type="http://schemas.openxmlformats.org/officeDocument/2006/relationships/slide" Target="slides/slide21.xml"/><Relationship Id="rId41" Type="http://schemas.openxmlformats.org/officeDocument/2006/relationships/slide" Target="slides/slide22.xml"/><Relationship Id="rId42" Type="http://schemas.openxmlformats.org/officeDocument/2006/relationships/slide" Target="slides/slide23.xml"/><Relationship Id="rId43" Type="http://schemas.openxmlformats.org/officeDocument/2006/relationships/slide" Target="slides/slide24.xml"/><Relationship Id="rId44" Type="http://schemas.openxmlformats.org/officeDocument/2006/relationships/slide" Target="slides/slide25.xml"/><Relationship Id="rId45" Type="http://schemas.openxmlformats.org/officeDocument/2006/relationships/slide" Target="slides/slide26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F603-BBBF-4593-B2A7-A8C462EEB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08DCF7-BCFB-4FFB-A2A2-29017E071C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C7A5ED-0602-43D0-86C8-3AFF3EB3266F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B9FB485-7E56-4C37-BA18-49498B3C4C09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F223C38-1DAE-45DA-B034-63DCF10C9FE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65814C9-5696-4D74-A855-028D0A733A31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D8B5DAF-4112-4286-B808-FA7FF8464261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5F0907F-F8BA-43BD-B62C-BF80A8330600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D55891A-6C27-4118-98C6-6C2962A4179D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154E7E-1922-438B-89BD-29B43B22DD82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D723D5-BDBF-4061-A800-0C24D4D7E4AB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39996B-AB8C-49F4-9D40-C0D20F3F3D4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4A5B3-0765-4FBB-A5ED-F1C5152E3C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136B962-D565-4CEB-96C4-D57BF7107A10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DE5FD4-D0C4-41C2-95CA-C0DF6414788B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1F1BA14F-E9B5-41D6-8BB6-66A23B238F27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FD6132-3E29-499F-8E79-62F7C80353D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86C1BBEF-FF49-4556-B361-AD16AB7E2F39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513B005-A976-46AB-8676-A9F0F43C2FB9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2179C0A-5819-4488-8C84-491158E303A0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1AA2172-726E-4FFE-A69A-1FE15F5370CB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D75817C-3D41-4D3A-B74C-8AAD038FCDA5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30176FD9-0D59-4A74-AA2F-3A69034DEFD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33365-D5D5-450B-8887-5EEAA9D96B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BFE46B1-6955-4A04-B31D-072413C2065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8A30F1-F2CE-442A-BF1F-65E79CD8D325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CC2058-2C19-435D-A621-A35343C6FAB1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309EAF0-8B18-4045-9480-CAE8DB44F080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081480-1258-429B-961D-B99E817E3CA1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6D781D-9521-4110-8611-D66F015DBEE1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B53203-326F-46C4-874E-A80EA6AC484E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247E503-C15B-4A91-A891-9DE2E7E56B8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5832A4-82E5-4D01-95AE-90389008F1CD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0E189A6-F55E-4EC5-9193-2CEEB839A08C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C9379D-8FDE-4BD2-8E4F-BE4677B3F418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82EAF0F-38CE-4257-9A6A-E9DC5422A700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03F01D9-3DEE-43D2-92B5-759F91B65B07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B41894A5-7DF5-4142-A534-0D2D8EAE72A9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A52D749-641C-441C-8EF0-642D1DC7C0F2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C7A4FBC-0CFE-4C64-895D-F128E8AB0A7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98EC488-FA1E-433A-BE49-527A54D8D3C9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72E0BF1B-2EEE-45F0-BCC5-969C53CDCAE1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3C6109B-0F3C-4DEA-AADD-A8D47DFF0620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87622E13-8ABE-4B41-8982-39616F572BC1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10CA77-3F00-4731-8F1B-BB366997C65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665D243-C806-4221-9625-64E1BBEB3148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91E3541-5CE4-4E68-BC26-6287F87F63E7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8980941-397D-45F8-94BB-3A93E94C3E5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D75C9CF-F3BC-4D59-8C28-74D21647C5B4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14FCAF6-7345-4FE5-A4E7-6504A583DDA8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A694553-0778-4D4A-A446-D9738BFC1E00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A99E30F-FBDC-4230-9BAC-AE032EFAB842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D3C2125B-7F63-4656-96F6-EAE5E902078B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D23BA58-CB8F-4EA3-8714-3E768343BA7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9F7356D-3839-41D1-AA3C-6F0634D533DB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E7E845DD-F5B0-4165-82F2-ED7CF0D801BB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56BD5FB-4581-4DD5-BC67-88F8CAEB80D0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09F469DC-5416-49FF-901A-19AA28E505CE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22EB503D-3B1B-496C-8925-8193ABBF9E9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B9233FE-EE89-4A3F-98C4-6DBE14AFE9D4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FA9349A-1DDB-4136-AF58-6982577388FD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1FDC3FB-1935-4918-A9EF-9AB98F7B8D64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92144D8-92BB-4577-8054-561A7AB9870B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9E245-9B60-4DC1-9F25-134F1E7CEF4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2652D29-E667-47DC-B384-BD9D5793536B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CC76E93-7538-4A3A-85F0-DC8713AE9FF9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0740C2C-9945-4388-A8A6-79F504051C80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6C4A6EE-66ED-4A25-B1AB-12144A8CCB60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D7567D3-9915-4E35-94CA-F8CD75D93640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3FE5787-4BD8-4FF8-8B71-5E95BEDFF132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3CC3A85-DBF4-4461-8821-EDED009E2FF9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0E37E9A-EE85-477A-BBDD-A87CDB6A07FB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32AEA6-4352-41F8-89D2-66AF5F860D41}" type="slidenum">
              <a:t>&lt;#&gt;</a:t>
            </a:fld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9587A8B-B537-4904-A001-3A59D1BD8D2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CC5A52F-4802-4A51-9FAB-7BDE53400A52}" type="slidenum">
              <a:t>&lt;#&gt;</a:t>
            </a:fld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B1CC6915-273F-42C7-87AE-5A4BC5AF66BA}" type="slidenum">
              <a:t>&lt;#&gt;</a:t>
            </a:fld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EAD7144-4B12-41CC-A417-0F8DA3E88B5E}" type="slidenum">
              <a:t>&lt;#&gt;</a:t>
            </a:fld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1314CE4-5001-4B37-9E16-7F699A29256F}" type="slidenum">
              <a:t>&lt;#&gt;</a:t>
            </a:fld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D04A21B-E96F-419B-999F-700A1B4BB216}" type="slidenum">
              <a:t>&lt;#&gt;</a:t>
            </a:fld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8A7FCDE-05A2-4EA4-BD88-EEE30AF766A4}" type="slidenum">
              <a:t>&lt;#&gt;</a:t>
            </a:fld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8067453-2032-4329-BA9A-7BCB3C8C22C3}" type="slidenum">
              <a:t>&lt;#&gt;</a:t>
            </a:fld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316B1A82-3713-4589-B2C7-FCC04484CCD9}" type="slidenum">
              <a:t>&lt;#&gt;</a:t>
            </a:fld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F084325-8722-4862-A7CC-7AB81BE5A0B2}" type="slidenum">
              <a:t>&lt;#&gt;</a:t>
            </a:fld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88075CB-E183-45A0-95E3-822C7658F1C8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90068E8-8EB0-4FBA-8BE6-4DD5F55C2B54}" type="slidenum">
              <a:t>&lt;#&gt;</a:t>
            </a:fld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8ECF08E-F7B4-4366-BB64-20078D0D58CB}" type="slidenum">
              <a:t>&lt;#&gt;</a:t>
            </a:fld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FC8F21B-785F-45DA-A62A-01D4C8E4CB73}" type="slidenum">
              <a:t>&lt;#&gt;</a:t>
            </a:fld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4BF015B-4385-42D3-9A8F-198D6B4C6AEC}" type="slidenum">
              <a:t>&lt;#&gt;</a:t>
            </a:fld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87C039-F36D-4BA4-A74C-B155B309D498}" type="slidenum">
              <a:t>&lt;#&gt;</a:t>
            </a:fld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B1E50AB-E326-48E1-B775-2E11D19FE7BB}" type="slidenum">
              <a:t>&lt;#&gt;</a:t>
            </a:fld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297F7A71-E788-4B48-8DB2-1E8D1B94E7D9}" type="slidenum">
              <a:t>&lt;#&gt;</a:t>
            </a:fld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11DD5E50-AE09-4B5E-A308-909965E1E170}" type="slidenum">
              <a:t>&lt;#&gt;</a:t>
            </a:fld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687EA09-AEFD-412D-B93D-13F30B5A2A71}" type="slidenum">
              <a:t>&lt;#&gt;</a:t>
            </a:fld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73C446CF-E206-430E-893F-BE94233E3111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809BE68-D1E2-435E-88D0-480D5F2C8B08}" type="slidenum">
              <a:t>&lt;#&gt;</a:t>
            </a:fld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168233-5B43-424F-B7E7-08E9804E6185}" type="slidenum">
              <a:t>&lt;#&gt;</a:t>
            </a:fld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65FE4B8E-BC99-49D6-A63C-B7F3F7126D64}" type="slidenum">
              <a:t>&lt;#&gt;</a:t>
            </a:fld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4D4240-2959-407D-8D30-4015EF992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B5D020A-B929-4982-8332-A6148FC32393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9E3BC33-6866-421E-8181-19DD8EC89C5B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0451781-62CD-4DE7-A98D-D5CC4BDF1B91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6BA9EBE-F435-4F98-A83E-CA7DB392FE37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D8FE7CE-CD23-4264-A6B3-66A448D1DD84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80E4-C4D8-4B6D-BEA5-FF6F6504D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B62ED84-494A-4023-9746-E5511603B1C5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7BABCC-E383-401E-AD22-C353A9D09711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002DADC-2A1E-41C2-B1A6-6D388B95024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67ED07-C477-4D88-A7E9-0E81BA6D5554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2DB77BB-1D3F-44AC-A2A2-4CF5F0D763D1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9611247-D046-4ECD-9DAB-EF590161355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CAFC9F2-6A8E-4CD2-8BB5-34BC9727466E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F61DBF9-D078-475F-B0C2-3EF15F83AB3B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3396CE2-F1F2-4D2B-957F-27E4F8E628C1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154747-5664-4A11-B800-D4EA1C7994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D82AE-E6A9-41E4-9048-4B15D54077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6E109C-4688-45B3-A94E-188600B8AE7C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D2DE9ED-D7BE-4D5B-A38D-61C8258FE4DD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61249C-B542-4B92-850B-EDCED01FD45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3495CEE-5F41-4551-8629-8DD586EDFF58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22BC14A-BB46-4C01-8201-C6C36327CFD0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4934658-0BE3-4780-86A0-3A00B4C5E858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5B97A4F-5150-4CD0-B088-40E1F6BFF81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AEECFC6-57C3-46A0-887A-E660F395587A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CE651C6-6E09-4821-8A04-B86FBC1B531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02CA8-5CD2-4BA5-9FE6-6CE2CA1BED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E6E4AB-11D7-4F18-A89B-3886633E84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86B45C-DA0D-4523-B464-061F82715B17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07E2EB-EBF3-4DC6-928A-DB85F1C445F5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3BAD1E-71C3-4333-AAD3-31C627FACD95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22691-6436-4195-B315-1A18F38CA6CA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576808-6BF8-4498-9E63-909A0AE96AC5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50EB0E-BBAB-4429-8AE0-79C91D2D33DA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7892B-46E7-49F4-9C11-A4FE4288F118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D1D914-BD81-4A73-B64B-C342E9994921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C9E7E8-B6A8-4E83-B8EC-38A93BF80E50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AD020A-24DD-47CC-BBD1-34D8C7550D5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ECBC8-72A7-4604-8BE5-6053CCD3B8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05D2147-7FA5-4EB9-86A2-9C55EA252C50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62E086C-A784-4BCB-8E88-F85825B09971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A5CCF0C-1156-4DB4-BF56-9E793FB634CD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6E4E08-7540-4C0F-A1A1-67FAE7C7C573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D4B59E3-4E93-4181-81C4-71F582270530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CA1E801-2F45-4B9F-8387-16C4538CD4A3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712BB23-3AB6-48F9-96AF-EBA8BD57B649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6B89D88-E820-430E-9F66-6BA2CD4935F2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FD555C4-8E01-4394-8AAF-BA64E44CBFA3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2FD56A6B-6BD0-4E48-BAA3-C5071CBF24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BE5FFA-76A4-4A14-91F8-350D894139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5186092-EFB9-42FF-B61B-557171920C70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6DF851A-416D-45EF-8277-300D59A8AF89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C92B272E-049B-455C-AA22-391F13F90FD6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F49299-B6A7-49E8-B60D-7BB7098C3DA2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7FE652A-7340-47E3-9F63-D0EBF62ECD30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43C08F9-724E-44C8-BFEE-309D737A3637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6667135-4085-4777-A250-969243D7056A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A64CCB-66B9-4FAA-8293-63889FBED52A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8200BD-E4DE-46AA-91F5-93819A4A5A04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B3C3E1B-FEA8-4D40-99D3-B78E85815A4C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AC6129-B964-4462-BFDC-99E6A1AC5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73731AB-593F-4ED0-96D1-0A147FD0F5BE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1960B23-6657-4FBB-8E47-C8571FF1A4B4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1684868-E4AF-4742-90A7-D64B4935AF59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14122D4-78E3-4A82-816E-C8371C56D836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18C541C-1BDC-4FFE-8D7F-5556D296C73F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FB0A5-6CB4-47B4-A13B-9A7C7ECD26F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D45D855-B42C-4A96-8E8C-8ECA08D70185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B9FA166-6835-4FCB-94A9-EBF8E671188A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65F8E5-F0F9-443F-8D4F-C4C990F60252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4CA851-0779-4E1E-A694-6393E0F6FCE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7E59B-C4B5-473B-843B-6A5EA6CDD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8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2DD699-2142-4C20-918D-A11CEACACBC5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D39EFD-06BA-4EBE-B706-3CC0C3575F2D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99E6A4-90CE-43FB-A707-3635DB7DCBE2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DA8B8CF-133B-4109-B21F-A694875463D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8CF5E-993D-4095-B7B7-35A66455837B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7FFC5A0-9934-4E62-A48D-C3CBF2FFD022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8CB24C7-D1FD-4764-8736-AED7EC85C39C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CD8CA6A-4F2C-4B6F-A8C2-5DB37518C9D1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825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991AD05-DA98-41A9-B139-B687B850B99C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AC134E-34FB-4DA7-AB64-DF4932D030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93.xml"/><Relationship Id="rId5" Type="http://schemas.openxmlformats.org/officeDocument/2006/relationships/slideLayout" Target="../slideLayouts/slideLayout194.xml"/><Relationship Id="rId6" Type="http://schemas.openxmlformats.org/officeDocument/2006/relationships/slideLayout" Target="../slideLayouts/slideLayout195.xml"/><Relationship Id="rId7" Type="http://schemas.openxmlformats.org/officeDocument/2006/relationships/slideLayout" Target="../slideLayouts/slideLayout196.xml"/><Relationship Id="rId8" Type="http://schemas.openxmlformats.org/officeDocument/2006/relationships/slideLayout" Target="../slideLayouts/slideLayout197.xml"/><Relationship Id="rId9" Type="http://schemas.openxmlformats.org/officeDocument/2006/relationships/slideLayout" Target="../slideLayouts/slideLayout198.xml"/><Relationship Id="rId10" Type="http://schemas.openxmlformats.org/officeDocument/2006/relationships/slideLayout" Target="../slideLayouts/slideLayout199.xml"/><Relationship Id="rId11" Type="http://schemas.openxmlformats.org/officeDocument/2006/relationships/slideLayout" Target="../slideLayouts/slideLayout200.xml"/><Relationship Id="rId12" Type="http://schemas.openxmlformats.org/officeDocument/2006/relationships/slideLayout" Target="../slideLayouts/slideLayout201.xml"/><Relationship Id="rId13" Type="http://schemas.openxmlformats.org/officeDocument/2006/relationships/slideLayout" Target="../slideLayouts/slideLayout202.xml"/><Relationship Id="rId14" Type="http://schemas.openxmlformats.org/officeDocument/2006/relationships/slideLayout" Target="../slideLayouts/slideLayout203.xml"/><Relationship Id="rId15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wmf"/><Relationship Id="rId4" Type="http://schemas.openxmlformats.org/officeDocument/2006/relationships/image" Target="../media/image3.wmf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2.wmf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733A131-DAF2-4E66-B379-28B3EA4B18DD}" type="datetime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07/28/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DF68F08-9273-474E-9A3C-7197CAB78517}" type="slidenum">
              <a:rPr b="0" lang="en-US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 type="sldNum" idx="11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BCDB443F-7CA1-4722-8C0B-AA2849C0D201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6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0" name="PlaceHolder 3"/>
          <p:cNvSpPr>
            <a:spLocks noGrp="1"/>
          </p:cNvSpPr>
          <p:nvPr>
            <p:ph type="sldNum" idx="12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C48B856-DDD7-4867-B4E0-0CA359D6AECF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sldNum" idx="13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042E9B91-EF42-464D-B24C-F35469C1C9A5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7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88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 type="sldNum" idx="1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A88F7F0-7ADC-4493-97A6-42DDBCAEEE77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 type="sldNum" idx="1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1A29CDCF-8D89-4191-8DB8-D9D17BF5961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8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569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 type="sldNum" idx="1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FB23031-555D-4EF0-8B1D-EABE531AF4D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9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 type="sldNum" idx="1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46AD74E0-AD9F-44B6-A13B-E424CCB62208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650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4"/>
    <p:sldLayoutId id="2147483858" r:id="rId5"/>
    <p:sldLayoutId id="2147483859" r:id="rId6"/>
    <p:sldLayoutId id="2147483860" r:id="rId7"/>
    <p:sldLayoutId id="2147483861" r:id="rId8"/>
    <p:sldLayoutId id="2147483862" r:id="rId9"/>
    <p:sldLayoutId id="2147483863" r:id="rId10"/>
    <p:sldLayoutId id="2147483864" r:id="rId11"/>
    <p:sldLayoutId id="2147483865" r:id="rId12"/>
    <p:sldLayoutId id="2147483866" r:id="rId13"/>
    <p:sldLayoutId id="2147483867" r:id="rId14"/>
    <p:sldLayoutId id="2147483868" r:id="rId15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9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8" descr=""/>
          <p:cNvPicPr/>
          <p:nvPr/>
        </p:nvPicPr>
        <p:blipFill>
          <a:blip r:embed="rId2"/>
          <a:stretch/>
        </p:blipFill>
        <p:spPr>
          <a:xfrm>
            <a:off x="2563920" y="6629400"/>
            <a:ext cx="6586560" cy="246240"/>
          </a:xfrm>
          <a:prstGeom prst="rect">
            <a:avLst/>
          </a:prstGeom>
          <a:ln w="0">
            <a:noFill/>
          </a:ln>
        </p:spPr>
      </p:pic>
      <p:pic>
        <p:nvPicPr>
          <p:cNvPr id="42" name="Picture 9" descr=""/>
          <p:cNvPicPr/>
          <p:nvPr/>
        </p:nvPicPr>
        <p:blipFill>
          <a:blip r:embed="rId3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43" name="Picture 8" descr=""/>
          <p:cNvPicPr/>
          <p:nvPr/>
        </p:nvPicPr>
        <p:blipFill>
          <a:blip r:embed="rId4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83" name="Picture 7" descr=""/>
          <p:cNvPicPr/>
          <p:nvPr/>
        </p:nvPicPr>
        <p:blipFill>
          <a:blip r:embed="rId3"/>
          <a:stretch/>
        </p:blipFill>
        <p:spPr>
          <a:xfrm>
            <a:off x="419040" y="6141960"/>
            <a:ext cx="1714680" cy="48744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sldNum" idx="4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AEC85FC6-CB90-4DC5-957B-0690DA78731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5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686C5F2-F2E1-4763-8F16-EE252E475A2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6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97C9E2B-A642-4F55-BA7C-3D6773DF26F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sldNum" idx="7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ED652DE-0F31-4EA4-8EF3-EC87D4F39BB9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4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sldNum" idx="8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D6BBD5FF-1706-43CC-AC72-FBAF0D91E7D4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6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sldNum" idx="9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99CE1679-025E-48FB-9EE7-48C4D17DDAF2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5" name="Picture 7" descr=""/>
          <p:cNvPicPr/>
          <p:nvPr/>
        </p:nvPicPr>
        <p:blipFill>
          <a:blip r:embed="rId2"/>
          <a:stretch/>
        </p:blipFill>
        <p:spPr>
          <a:xfrm>
            <a:off x="600120" y="0"/>
            <a:ext cx="1155600" cy="1652760"/>
          </a:xfrm>
          <a:prstGeom prst="rect">
            <a:avLst/>
          </a:prstGeom>
          <a:ln w="0">
            <a:noFill/>
          </a:ln>
        </p:spPr>
      </p:pic>
      <p:pic>
        <p:nvPicPr>
          <p:cNvPr id="326" name="Picture 7" descr=""/>
          <p:cNvPicPr/>
          <p:nvPr/>
        </p:nvPicPr>
        <p:blipFill>
          <a:blip r:embed="rId3"/>
          <a:stretch/>
        </p:blipFill>
        <p:spPr>
          <a:xfrm>
            <a:off x="412920" y="6141960"/>
            <a:ext cx="1712880" cy="487440"/>
          </a:xfrm>
          <a:prstGeom prst="rect">
            <a:avLst/>
          </a:prstGeom>
          <a:ln w="0">
            <a:noFill/>
          </a:ln>
        </p:spPr>
      </p:pic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51000" indent="-35100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spcBef>
                <a:spcPts val="8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3" marL="1643040" indent="-233280">
              <a:spcBef>
                <a:spcPts val="825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4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5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  <a:p>
            <a:pPr lvl="6" marL="2112840" indent="-233280">
              <a:spcBef>
                <a:spcPts val="825"/>
              </a:spcBef>
              <a:buClr>
                <a:srgbClr val="000000"/>
              </a:buClr>
              <a:buFont typeface="Arial"/>
              <a:buChar char="»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33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 type="sldNum" idx="10"/>
          </p:nvPr>
        </p:nvSpPr>
        <p:spPr>
          <a:xfrm>
            <a:off x="8534520" y="6324120"/>
            <a:ext cx="30456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  <a:defRPr b="0" lang="en-US" sz="1000" spc="-1" strike="noStrike">
                <a:solidFill>
                  <a:srgbClr val="898989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64401831-A899-4CC4-BC17-2CAF9C231E2B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hyperlink" Target="https://www.nordplusonline.org/News2/NEWS-AND-ARCHIVE/Results-of-the-Nordplus-2020-application-round" TargetMode="External"/><Relationship Id="rId4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News2/CALLS/Application-for-Nordplus-2020-preparatory-visits-is-open" TargetMode="External"/><Relationship Id="rId2" Type="http://schemas.openxmlformats.org/officeDocument/2006/relationships/hyperlink" Target="https://www.nordplusonline.org/News2/CALLS/Application-for-Nordplus-2020-preparatory-visits-is-open" TargetMode="External"/><Relationship Id="rId3" Type="http://schemas.openxmlformats.org/officeDocument/2006/relationships/hyperlink" Target="https://www.nordplusonline.org/News2/CALLS/Application-for-Nordplus-2020-preparatory-visits-is-open" TargetMode="External"/><Relationship Id="rId4" Type="http://schemas.openxmlformats.org/officeDocument/2006/relationships/image" Target="../media/image4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https://espresso.siu.no/espresso/login?0" TargetMode="Externa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nordplusonline.org/" TargetMode="External"/><Relationship Id="rId3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s://www.nordplusonline.org/" TargetMode="External"/><Relationship Id="rId2" Type="http://schemas.openxmlformats.org/officeDocument/2006/relationships/hyperlink" Target="https://www.nordplusonline.org/" TargetMode="External"/><Relationship Id="rId3" Type="http://schemas.openxmlformats.org/officeDocument/2006/relationships/hyperlink" Target="https://www.nordplusonline.org/How-to-apply/HANDBOOK#pdf_frame" TargetMode="External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2141640" y="991800"/>
            <a:ext cx="6316560" cy="12603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Calibri"/>
                <a:ea typeface="Verdana"/>
              </a:rPr>
              <a:t>Projektu pieteikumu aizpildīšanas seminārs </a:t>
            </a:r>
            <a:br>
              <a:rPr sz="2800"/>
            </a:br>
            <a:r>
              <a:rPr b="1" lang="lv-LV" sz="3300" spc="-1" strike="noStrike">
                <a:solidFill>
                  <a:srgbClr val="0b7d91"/>
                </a:solidFill>
                <a:latin typeface="Calibri"/>
                <a:ea typeface="Verdana"/>
              </a:rPr>
              <a:t>Sagatavošanas vizītēm </a:t>
            </a:r>
            <a:br>
              <a:rPr sz="2600"/>
            </a:br>
            <a:endParaRPr b="0" lang="en-US" sz="3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1865160" y="2887560"/>
            <a:ext cx="6818400" cy="1201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b7d91"/>
                </a:solidFill>
                <a:latin typeface="Calibri"/>
                <a:ea typeface="Verdana"/>
              </a:rPr>
              <a:t>Jauniešu izglītības, Pieaugušo izglītības un Ziemeļvalstu valodu programmas 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2238480" y="4088880"/>
            <a:ext cx="5829120" cy="668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600" spc="-1" strike="noStrike">
                <a:solidFill>
                  <a:srgbClr val="000000"/>
                </a:solidFill>
                <a:latin typeface="Verdana"/>
                <a:ea typeface="Verdana"/>
              </a:rPr>
              <a:t>2020.gada 10.septembrī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32" name="Text Placeholder 3"/>
          <p:cNvSpPr/>
          <p:nvPr/>
        </p:nvSpPr>
        <p:spPr>
          <a:xfrm flipV="1" rot="10800000">
            <a:off x="3795840" y="5058360"/>
            <a:ext cx="4868640" cy="12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t">
            <a:normAutofit/>
          </a:bodyPr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VIAA Vadības un ārējās sadarbības departamenta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500" spc="-1" strike="noStrike">
                <a:solidFill>
                  <a:srgbClr val="000000"/>
                </a:solidFill>
                <a:latin typeface="Verdana"/>
              </a:rPr>
              <a:t>Starptautisko sadarbības programmu nodaļas vec. proj.vad. </a:t>
            </a:r>
            <a:r>
              <a:rPr b="1" lang="lv-LV" sz="1500" spc="-1" strike="noStrike">
                <a:solidFill>
                  <a:srgbClr val="000000"/>
                </a:solidFill>
                <a:latin typeface="Verdana"/>
              </a:rPr>
              <a:t>Linards Deidulis</a:t>
            </a:r>
            <a:endParaRPr b="0" lang="en-US" sz="15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u kopsavilkums programmas oficiālajā portāl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1" name="Picture 5" descr=""/>
          <p:cNvPicPr/>
          <p:nvPr/>
        </p:nvPicPr>
        <p:blipFill>
          <a:blip r:embed="rId2"/>
          <a:stretch/>
        </p:blipFill>
        <p:spPr>
          <a:xfrm>
            <a:off x="3137040" y="3144960"/>
            <a:ext cx="3598560" cy="3384360"/>
          </a:xfrm>
          <a:prstGeom prst="rect">
            <a:avLst/>
          </a:prstGeom>
          <a:ln w="0">
            <a:noFill/>
          </a:ln>
        </p:spPr>
      </p:pic>
      <p:sp>
        <p:nvSpPr>
          <p:cNvPr id="762" name=""/>
          <p:cNvSpPr txBox="1"/>
          <p:nvPr/>
        </p:nvSpPr>
        <p:spPr>
          <a:xfrm>
            <a:off x="483840" y="2182320"/>
            <a:ext cx="8202600" cy="1117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Verdana"/>
                <a:ea typeface="Verdana"/>
                <a:hlinkClick r:id="rId3"/>
              </a:rPr>
              <a:t>https://www.nordplusonline.org/News2/NEWS-AND-ARCHIVE/Results-of-the-Nordplus-2020-application-roun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aziņojums par 2020. gada sagatavošanas vizīšu konkursu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4" name=""/>
          <p:cNvSpPr txBox="1"/>
          <p:nvPr/>
        </p:nvSpPr>
        <p:spPr>
          <a:xfrm>
            <a:off x="1235160" y="1692000"/>
            <a:ext cx="7526160" cy="4638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://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www.nordplusonline.org/News2/CALLS/Application-for-Nordplus-2020-preparatory-visits-is-open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5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pic>
        <p:nvPicPr>
          <p:cNvPr id="766" name="Picture 1" descr=""/>
          <p:cNvPicPr/>
          <p:nvPr/>
        </p:nvPicPr>
        <p:blipFill>
          <a:blip r:embed="rId5"/>
          <a:stretch/>
        </p:blipFill>
        <p:spPr>
          <a:xfrm>
            <a:off x="2417760" y="2487600"/>
            <a:ext cx="4960800" cy="3538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2150640" y="380880"/>
            <a:ext cx="653580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)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8" name=""/>
          <p:cNvSpPr txBox="1"/>
          <p:nvPr/>
        </p:nvSpPr>
        <p:spPr>
          <a:xfrm>
            <a:off x="1994040" y="1530000"/>
            <a:ext cx="6767280" cy="48006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paredzētas, lai potenciālie projektu iesniedzēji tiktos ar potenciālajiem partneriem (uz projekta iesniegšanas laiku parteriem jābūt zināmiem!), sāktu plānot projektu un gatavotu projekta pieteikumu. Jābūt skaidrai projekta ideja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s sagatavošanas vizītēm iespējams iesniegt tikai </a:t>
            </a:r>
            <a:r>
              <a:rPr b="1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rdplus Junior, Nordplus Adult un Nordplus Nordic Language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akšprogrammā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iesniegšanas termiņš – </a:t>
            </a:r>
            <a:r>
              <a:rPr b="1" lang="lv-LV" sz="2000" spc="-1" strike="noStrike">
                <a:solidFill>
                  <a:srgbClr val="009a00"/>
                </a:solidFill>
                <a:latin typeface="Calibri"/>
                <a:ea typeface="Verdana"/>
              </a:rPr>
              <a:t>2020.gada 1.oktobris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s ir jāaizpilda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ngļu valodā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u pieteikumi jāaizpilda un jāiesniedz, izmantojot tiešsaistes sistēmu </a:t>
            </a:r>
            <a:r>
              <a:rPr b="0" i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: </a:t>
            </a:r>
            <a:r>
              <a:rPr b="0" lang="lv-LV" sz="20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espresso.siu.no/espresso/login?0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69" name="Picture 3" descr=""/>
          <p:cNvPicPr/>
          <p:nvPr/>
        </p:nvPicPr>
        <p:blipFill>
          <a:blip r:embed="rId2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1" lang="lv-LV" sz="24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2590560" y="6324120"/>
            <a:ext cx="198108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4876920" y="6324120"/>
            <a:ext cx="3657600" cy="3049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73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3013F7C8-B94A-44C6-8C2F-CFFA6D42DDD0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4" name="Picture 6" descr=""/>
          <p:cNvPicPr/>
          <p:nvPr/>
        </p:nvPicPr>
        <p:blipFill>
          <a:blip r:embed="rId1"/>
          <a:stretch/>
        </p:blipFill>
        <p:spPr>
          <a:xfrm>
            <a:off x="-1728720" y="-485640"/>
            <a:ext cx="12601440" cy="7829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5" name="PlaceHolder 1"/>
          <p:cNvSpPr>
            <a:spLocks noGrp="1"/>
          </p:cNvSpPr>
          <p:nvPr>
            <p:ph type="title"/>
          </p:nvPr>
        </p:nvSpPr>
        <p:spPr>
          <a:xfrm>
            <a:off x="2211120" y="380880"/>
            <a:ext cx="64753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6" name=""/>
          <p:cNvSpPr txBox="1"/>
          <p:nvPr/>
        </p:nvSpPr>
        <p:spPr>
          <a:xfrm>
            <a:off x="2123640" y="1590480"/>
            <a:ext cx="647532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 piedalā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e mazāk kā divas izglītības iestādes/organizācijas no divām dažādā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rdplus programmas valstī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s </a:t>
            </a:r>
            <a:r>
              <a:rPr b="0" lang="lv-LV" sz="22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maksimālais ilgums ir 5 dien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ieskaitot ceļā pavadīto laiku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āli viena sagatavošanas vizīte ar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aksimums 2 dalībniek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 no katras organizācijas/valsts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ēm Nordplus sedz 100% ceļa izdevumus un uzturēšanās izdevumus saskaņā ar likmēm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gatavošanas vizīte īstenojama 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no 2020.gada 1.novembra līdz 2021. gada 1.februārim 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(ja plānots iesniegt projektu 2021. gada projektu konkursam)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, vai līdz 2020./2021.mācību gada beigām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9" name=""/>
          <p:cNvSpPr txBox="1"/>
          <p:nvPr/>
        </p:nvSpPr>
        <p:spPr>
          <a:xfrm>
            <a:off x="2203200" y="1506600"/>
            <a:ext cx="6483240" cy="461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Uzņemošai institūcijai nekādi izdevumi saistībā ar sagatavošanas vizītēm netiek segti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iekļaujams detalizēts vizītes darba plāns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schedule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ā norādāmi konkrēti vizītes sasniedzamie mērķi attiecībā uz nākotnē plānoto projektu (kādi ir vizītes sagaidāmie rezultāti)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Pieteikumam jāpievieno organizācijas paraksttiesīgās personas parakstīta Nodomu vēstule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) par koordinatoru un par katru partneri (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Letter of Intent 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izveido </a:t>
            </a:r>
            <a:r>
              <a:rPr b="0" i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sistēmā, aizpildot pieteikuma veidlapu) 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0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782" name="PlaceHolder 1"/>
          <p:cNvSpPr>
            <a:spLocks noGrp="1"/>
          </p:cNvSpPr>
          <p:nvPr>
            <p:ph type="title"/>
          </p:nvPr>
        </p:nvSpPr>
        <p:spPr>
          <a:xfrm>
            <a:off x="2141280" y="380880"/>
            <a:ext cx="6545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b7d91"/>
                </a:solidFill>
                <a:latin typeface="Verdana"/>
                <a:ea typeface="Verdana"/>
              </a:rPr>
              <a:t>Pieteikumu sagatavošanas vizītēm vispārējie nosacījumi (III) - finansējums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3" name=""/>
          <p:cNvSpPr txBox="1"/>
          <p:nvPr/>
        </p:nvSpPr>
        <p:spPr>
          <a:xfrm>
            <a:off x="1773360" y="1506600"/>
            <a:ext cx="7161120" cy="4857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Ceļa izdevumi  (abos virzienos)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šādā apmērā: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Islandi un Fēru salām –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66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Uz Dāniju, Igauniju, Somiju, Ālandu salām, Norvēģiju, Zviedriju, Lietuvu -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33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1 dalībniekam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Ceļa izdevumi savā un partnera valstī, ja pārsniedz 500 km – 150 eur 1 dalībniekam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Uzturēšanās izdevumi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tiek finansēt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70 eur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pmērā par 1 diennakti 1 dalībniekam.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 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 algn="just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a veidlap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ā budžeta aprēķini notiek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automātisk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, ievadot brauciena dalībnieku skaitu, dienu skaitu un apmeklējamo valsti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1104840" indent="-342720"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2168640" y="380880"/>
            <a:ext cx="65181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Jauniešu programm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5" name=""/>
          <p:cNvSpPr txBox="1"/>
          <p:nvPr/>
        </p:nvSpPr>
        <p:spPr>
          <a:xfrm>
            <a:off x="2072880" y="1289160"/>
            <a:ext cx="6613560" cy="483696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</a:t>
            </a:r>
            <a:r>
              <a:rPr b="1" lang="lv-LV" sz="2000" spc="-1" strike="noStrike">
                <a:solidFill>
                  <a:srgbClr val="0b7d91"/>
                </a:solidFill>
                <a:latin typeface="Calibri"/>
                <a:ea typeface="Verdana"/>
              </a:rPr>
              <a:t> –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skolēni/audzēkņi, skolotāji/pasniedzēji, administrācijas darbiniek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</a:t>
            </a:r>
            <a:r>
              <a:rPr b="0" lang="lv-LV" sz="2000" spc="-1" strike="noStrike">
                <a:solidFill>
                  <a:srgbClr val="454547"/>
                </a:solidFill>
                <a:latin typeface="Calibri"/>
                <a:ea typeface="Verdana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sākumskola/pamatskola/vidusskol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51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800" spc="-1" strike="noStrike">
                <a:solidFill>
                  <a:srgbClr val="000000"/>
                </a:solidFill>
                <a:latin typeface="Calibri"/>
                <a:ea typeface="Times New Roman"/>
              </a:rPr>
              <a:t>kultūras skolas (mūzikas un mākslas skolas), kas īsteno valsts apstiprinātu programmu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Cita veida iestādes, kas ir saistītas ar mērķa grupas apmācību, bet neīsteno valsts apstiprinātas mācību programmas, var piedalīties kā partner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625320" indent="-156960" algn="just">
              <a:lnSpc>
                <a:spcPct val="90000"/>
              </a:lnSpc>
              <a:buClr>
                <a:srgbClr val="000000"/>
              </a:buClr>
              <a:buSzPct val="45000"/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92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!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Kā projekta </a:t>
            </a:r>
            <a:r>
              <a:rPr b="1" lang="lv-LV" sz="20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iesniedzēji/koordinatori </a:t>
            </a: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var būt tikai formālās izglītības iestādes (tas ir – bērnudārzi, skolas, profesionālās izglītības iestādes, mūzikas un mākslas skolas, kas īsteno valsts apstiprinātas mācību programmas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8" name=""/>
          <p:cNvSpPr txBox="1"/>
          <p:nvPr/>
        </p:nvSpPr>
        <p:spPr>
          <a:xfrm>
            <a:off x="1976040" y="1417320"/>
            <a:ext cx="70023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klašu apmaiņa (no 1 līdz 3 nedēļā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vidusskolu skolēnu apmaiņa un profesionālās izglītības skolu audzēkņu darba prakse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Verdana"/>
              </a:rPr>
              <a:t>skolotāju un pedagoģiskā personāla apmaiņa (no 1 nedēļas līdz 1 gadam)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2. Projekti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as tikšanās projekta aktivitāšu plānošanai un īstenošanai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 un citas aktivitātes, kas vērstas uz pedagoģisko un didaktisko metožu attīstīšanu un pilnveidi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3. Sadarbības tīkli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administratīvās tikšanās, lai dibinātu un attīstītu skolu sadarbības tīklu;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0000"/>
              </a:lnSpc>
              <a:spcBef>
                <a:spcPts val="476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900" spc="-1" strike="noStrike">
                <a:solidFill>
                  <a:srgbClr val="000000"/>
                </a:solidFill>
                <a:latin typeface="Calibri"/>
                <a:ea typeface="Calibri"/>
              </a:rPr>
              <a:t>sabiedrības informēšanas aktivitātes un projektu rezultātu izplatīšana.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9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Jauniešu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1" name=""/>
          <p:cNvSpPr txBox="1"/>
          <p:nvPr/>
        </p:nvSpPr>
        <p:spPr>
          <a:xfrm>
            <a:off x="1993680" y="1348920"/>
            <a:ext cx="6692760" cy="4576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 no citas programmas dalībvalsts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Projektiem un sadarbības tīkliem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- izglītības iestādes no dažādām programmas dalībvalstīm. 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tīkliem un projektiem līdz 75%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 no plānoto aktivitāšu izmaksām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3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4" name=""/>
          <p:cNvSpPr txBox="1"/>
          <p:nvPr/>
        </p:nvSpPr>
        <p:spPr>
          <a:xfrm>
            <a:off x="2012760" y="1252440"/>
            <a:ext cx="6870600" cy="49672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Ziemeļu Ministru padomes programma Ziemeļvalstu un Baltijas valstu sadarbībai izglītības jomā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3000" spc="-1" strike="noStrike">
                <a:solidFill>
                  <a:srgbClr val="000000"/>
                </a:solidFill>
                <a:latin typeface="Calibri"/>
                <a:ea typeface="Verdana"/>
              </a:rPr>
              <a:t>5 apakšprogrammas: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Jaunieš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ākās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Pieaugušo izglītības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Horizontālā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 lvl="2" marL="1173240" indent="-23328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Times New Roman"/>
              </a:rPr>
              <a:t>Ziemeļvalstu valodu programma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2198520" y="380880"/>
            <a:ext cx="609624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ieaugušo izglītības programma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"/>
          <p:cNvSpPr txBox="1"/>
          <p:nvPr/>
        </p:nvSpPr>
        <p:spPr>
          <a:xfrm>
            <a:off x="1728360" y="1671120"/>
            <a:ext cx="7110360" cy="46594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Mērķa grupa ir</a:t>
            </a:r>
            <a:r>
              <a:rPr b="0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 visi un jebkurš pieaugušo izglītībā iesaistītais (formālā, neformālā, vispārējā, profesionālā izglītība)!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rojektu pieteicēji: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iestāde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iesaistītas vai nodarbojas ar pieaugušo izglītības nodrošināšanu, 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82000"/>
              </a:lnSpc>
              <a:spcBef>
                <a:spcPts val="550"/>
              </a:spcBef>
              <a:buClr>
                <a:srgbClr val="000000"/>
              </a:buClr>
              <a:buSzPct val="45000"/>
              <a:buFont typeface="Wingdings" charset="2"/>
              <a:buChar char="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organizācija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Times New Roman"/>
              </a:rPr>
              <a:t>, kas nodarbojas ar pieaugušo izglītības īstenošanu (asociācijas, uzņēmumi, nevalstiskās organizācijas, un tml.)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82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300" spc="-1" strike="noStrike">
                <a:solidFill>
                  <a:srgbClr val="000000"/>
                </a:solidFill>
                <a:latin typeface="Calibri"/>
                <a:ea typeface="Verdana"/>
              </a:rPr>
              <a:t>!!! Pieaugušo izglītības programmas projekta iesniedzējs var nebūt izglītības iestāde, bet projektā jābūt skaidri norādītam, kā projekta iesniedzējs saistīts ar pieaugušo izglītību, ko un kā izglītojamie iegūs no projekta īstenošanas.</a:t>
            </a: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3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5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projektu veid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"/>
          <p:cNvSpPr txBox="1"/>
          <p:nvPr/>
        </p:nvSpPr>
        <p:spPr>
          <a:xfrm>
            <a:off x="2080800" y="1611000"/>
            <a:ext cx="6605640" cy="46148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1. Mobilitāt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izglītotāju un cita pedagoģiskā personāla tālākizglītība (no 5 dienām līdz 1 gadam)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augušo audzēkņu apmaiņa (no 5 dienām līdz 1 gadam)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2. Sadarbības projekti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tematisko tīklu projekti, kas paredz administratīvas tikšanās, lai dibinātu un attīstītu sadarbības tīklu pieaugušo izglītības sfērā, sabiedrības informēšanas aktivitātes, projekta rezultātu izplatīšanu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attīstības projekti, kas paredz jaunu moduli, kursu, mācību metožu izveidi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Calibri"/>
              </a:rPr>
              <a:t>plānošanas projekti, kas paredz iestrādes jaunu projektu izstrādei.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9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Pieaugušo programmas nosacījum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2211120" y="1531800"/>
            <a:ext cx="6475320" cy="48340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Partneri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viens sadarbības partneris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 no citas programmas dalībvalsts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 </a:t>
            </a: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vismaz divi sadarbības partneri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- organizācijas no dažādām programmas dalībvalstīm. 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 u="sng">
                <a:solidFill>
                  <a:srgbClr val="0b7d91"/>
                </a:solidFill>
                <a:uFillTx/>
                <a:latin typeface="Calibri"/>
                <a:ea typeface="Verdana"/>
              </a:rPr>
              <a:t>Finansējumu piešķir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Mobilitātē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apmērā no mobilitātes izmaksām saskaņā ar programmas noteiktajām standarta (maksimālajām) likmēm ceļa un uzturēšanas izdevumiem;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24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Sadarbības projektiem 100%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 no piešķirtā finansējuma saskaņā ar plānotajām vienības izmaksām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Ziemeļvalstu valodu programma</a:t>
            </a:r>
            <a:br>
              <a:rPr sz="2500"/>
            </a:b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3" name=""/>
          <p:cNvSpPr txBox="1"/>
          <p:nvPr/>
        </p:nvSpPr>
        <p:spPr>
          <a:xfrm>
            <a:off x="2028600" y="1331640"/>
            <a:ext cx="7027560" cy="47941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Programmas mērķgrup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si ieinteresētie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u apguvē, mācīšanā, izplatīšanā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    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 </a:t>
            </a: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Ziemeļvalstu valodas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– dāņu, somu, norvēģu, zviedru, sāmu, islandiešu, fēriešu, grenlandiešu valoda, zīmju valoda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tbalstāmās aktivitātes (līdz 3 gadiem)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mācību metožu un materiālu veidošana Ziemeļvalstu valodu apguvei, mācīšana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adarbība skolu mācību programmu attīstībai, iekļaujot tajās Ziemeļvalstu  valodu apguv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sabiedrības informēšanu par projekta rezultātiem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konferences, semināri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jekti, kas vērsti uz terminoloģijas izstrādi un vārdnīcu sagatavošanu;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ublikācijas;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attīstības projekti un citas aktivitātes, kas vērstas uz pedagoģisko un didaktisko metožu attīstīšanu un pilnveidi.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5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Ziemeļvalstu valodu programmas dalībnieki</a:t>
            </a:r>
            <a:br>
              <a:rPr sz="2900"/>
            </a:b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6" name=""/>
          <p:cNvSpPr txBox="1"/>
          <p:nvPr/>
        </p:nvSpPr>
        <p:spPr>
          <a:xfrm>
            <a:off x="2490480" y="1626840"/>
            <a:ext cx="619596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 fontScale="99000"/>
          </a:bodyPr>
          <a:p>
            <a:pPr>
              <a:lnSpc>
                <a:spcPct val="7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4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un sadarbības partneri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irmsskolas izglītības iestāde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ama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vidusskol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ofesionālās izglītības iestāde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augstskolas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zinātniskās institū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nevalstiskās organizācijas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lvl="1" marL="792000" indent="-339480">
              <a:lnSpc>
                <a:spcPct val="70000"/>
              </a:lnSpc>
              <a:spcBef>
                <a:spcPts val="524"/>
              </a:spcBef>
              <a:buClr>
                <a:srgbClr val="000000"/>
              </a:buClr>
              <a:buFont typeface="Arial"/>
              <a:buChar char="•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Times New Roman"/>
              </a:rPr>
              <a:t>privātuzņēmumi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2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rojekta iesniedzējs +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1 sadarbības partneris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no divām dažādām programmas dalībvalstī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! Programmas finansējums -  līdz 75%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 no aktivitāšu izmaksā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! </a:t>
            </a:r>
            <a:r>
              <a:rPr b="0" lang="lv-LV" sz="2000" spc="-1" strike="noStrike">
                <a:solidFill>
                  <a:srgbClr val="000000"/>
                </a:solidFill>
                <a:latin typeface="Calibri"/>
                <a:ea typeface="Verdana"/>
              </a:rPr>
              <a:t>Pieteikumu var iesniegt arī </a:t>
            </a:r>
            <a:r>
              <a:rPr b="1" lang="lv-LV" sz="2000" spc="-1" strike="noStrike">
                <a:solidFill>
                  <a:srgbClr val="254061"/>
                </a:solidFill>
                <a:latin typeface="Calibri"/>
                <a:ea typeface="Verdana"/>
              </a:rPr>
              <a:t>angļu valodā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0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sp>
        <p:nvSpPr>
          <p:cNvPr id="809" name="PlaceHolder 1"/>
          <p:cNvSpPr>
            <a:spLocks noGrp="1"/>
          </p:cNvSpPr>
          <p:nvPr>
            <p:ph type="title"/>
          </p:nvPr>
        </p:nvSpPr>
        <p:spPr>
          <a:xfrm>
            <a:off x="2590560" y="380520"/>
            <a:ext cx="6095880" cy="6210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Informācijas avoti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0" name=""/>
          <p:cNvSpPr txBox="1"/>
          <p:nvPr/>
        </p:nvSpPr>
        <p:spPr>
          <a:xfrm>
            <a:off x="1782720" y="861840"/>
            <a:ext cx="7143840" cy="5477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rogrammas oficiālā mājas lapa, t.sk. partneru datu bāze – </a:t>
            </a:r>
            <a:r>
              <a:rPr b="0" lang="lv-LV" sz="17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www.nordplusonline.org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34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1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Nordplus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rokasgrāmata (2020) </a:t>
            </a:r>
            <a:r>
              <a:rPr b="0" lang="lv-LV" sz="1400" spc="-1" strike="noStrike">
                <a:solidFill>
                  <a:srgbClr val="009a00"/>
                </a:solidFill>
                <a:latin typeface="Calibri"/>
                <a:ea typeface="Verdana"/>
              </a:rPr>
              <a:t>https://www.nordplusonline.org/How-to-apply/HANDBOOK#pdf_fram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Tiešsaistes sistēma </a:t>
            </a:r>
            <a:r>
              <a:rPr b="0" i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spresso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(pieteikumu aizpildīšana un iesniegšana) – </a:t>
            </a: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espresso.siu.no/espress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VIAA mājas lapa – sadaļa “Nordplus” -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400" spc="-1" strike="noStrike">
                <a:solidFill>
                  <a:srgbClr val="000000"/>
                </a:solidFill>
                <a:latin typeface="Calibri"/>
                <a:ea typeface="Verdana"/>
              </a:rPr>
              <a:t>http://www.viaa.gov.lv/lat/starpt_fin_intrumenti/nordplus/par_nordplus/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Partneru meklēšana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Nordplus partneru meklēšanas datu bāze https://www.nordplusonline.org/How-to-apply/FIND-A-PARTNER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Skolu izglītības sektorā: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Twinning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www.etwinning.net/en/pub/index.htm ,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Schoolgateway: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 https://login.schoolgateway.com/0/auth/logi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Pieaugušo izglītības sektorā: </a:t>
            </a:r>
            <a:r>
              <a:rPr b="1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EPALE: 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s://ec.europa.eu/epale/en 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	</a:t>
            </a:r>
            <a:r>
              <a:rPr b="0" lang="lv-LV" sz="1700" spc="-1" strike="noStrike">
                <a:solidFill>
                  <a:srgbClr val="000000"/>
                </a:solidFill>
                <a:latin typeface="Calibri"/>
                <a:ea typeface="Verdana"/>
              </a:rPr>
              <a:t>http://www.muzizglitiba.lv/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10000"/>
              </a:lnSpc>
              <a:spcBef>
                <a:spcPts val="601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1" name=""/>
          <p:cNvSpPr txBox="1"/>
          <p:nvPr/>
        </p:nvSpPr>
        <p:spPr>
          <a:xfrm>
            <a:off x="1393560" y="1166760"/>
            <a:ext cx="7132680" cy="47592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marL="360360" indent="-360360" algn="ctr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3200" spc="-1" strike="noStrike">
                <a:solidFill>
                  <a:srgbClr val="0b7d91"/>
                </a:solidFill>
                <a:latin typeface="Calibri"/>
                <a:ea typeface="Verdana"/>
              </a:rPr>
              <a:t>Kontaktinformācija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 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i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Nordplus</a:t>
            </a: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 programma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tālr. 67830837, 29554403 (GSM, WhatsApp)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Linards.deidulis@viaa.gov.lv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Skype: linards.deidul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0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Espresso sistēmas administrators Norvēģijā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r>
              <a:rPr b="1" lang="lv-LV" sz="2000" spc="-1" strike="noStrike">
                <a:solidFill>
                  <a:srgbClr val="0b7d91"/>
                </a:solidFill>
                <a:latin typeface="Arial"/>
                <a:ea typeface="Verdana"/>
              </a:rPr>
              <a:t>Frank Krohn: frank.krohn@siu.no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 algn="ctr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60360" indent="-36036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642960"/>
                <a:tab algn="l" pos="1285920"/>
                <a:tab algn="l" pos="1928880"/>
                <a:tab algn="l" pos="2571840"/>
                <a:tab algn="l" pos="3214800"/>
                <a:tab algn="l" pos="3857760"/>
                <a:tab algn="l" pos="4500720"/>
                <a:tab algn="l" pos="5143680"/>
                <a:tab algn="l" pos="5786280"/>
                <a:tab algn="l" pos="6429240"/>
                <a:tab algn="l" pos="7072200"/>
                <a:tab algn="l" pos="7715160"/>
                <a:tab algn="l" pos="8358120"/>
                <a:tab algn="l" pos="9001080"/>
                <a:tab algn="l" pos="9644040"/>
                <a:tab algn="l" pos="10287000"/>
                <a:tab algn="l" pos="1092996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2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2590560" y="38088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programmas mērķi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7" name=""/>
          <p:cNvSpPr txBox="1"/>
          <p:nvPr/>
        </p:nvSpPr>
        <p:spPr>
          <a:xfrm>
            <a:off x="2055600" y="1236600"/>
            <a:ext cx="6630840" cy="488952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tiprināt un attīstīt Ziemeļvalstu un Baltijas valstu izglītības institūciju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sadarbību 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izglītības jomā, veicinot zināšanu ieguvi, apmaiņu un sadarbības tīklu veidošanu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uzlabot un ieviest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jauninājumu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Ziemeļvalstu un Baltijas valstu izglītības sistēmās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sniegt ieguldījumu kvalitatīvā un inovatīvā </a:t>
            </a:r>
            <a:r>
              <a:rPr b="1" lang="lv-LV" sz="2500" spc="-1" strike="noStrike">
                <a:solidFill>
                  <a:srgbClr val="0b7d91"/>
                </a:solidFill>
                <a:latin typeface="Calibri"/>
                <a:ea typeface="Times New Roman"/>
              </a:rPr>
              <a:t>mūžizglītības</a:t>
            </a: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 attīstībā;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 lvl="1" marL="762120" indent="-29232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500" spc="-1" strike="noStrike">
                <a:solidFill>
                  <a:srgbClr val="000000"/>
                </a:solidFill>
                <a:latin typeface="Calibri"/>
                <a:ea typeface="Times New Roman"/>
              </a:rPr>
              <a:t>veicināt Ziemeļvalstu kultūru un valodu apguvi, kā arī savstarpējo Ziemeļvalstu un Baltijas valstu valodu un kultūru izpratni.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38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9" name="PlaceHolder 1"/>
          <p:cNvSpPr>
            <a:spLocks noGrp="1"/>
          </p:cNvSpPr>
          <p:nvPr>
            <p:ph type="title"/>
          </p:nvPr>
        </p:nvSpPr>
        <p:spPr>
          <a:xfrm>
            <a:off x="2386080" y="380880"/>
            <a:ext cx="630072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en-GB" sz="2900" spc="-1" strike="noStrike">
                <a:solidFill>
                  <a:srgbClr val="0b7d91"/>
                </a:solidFill>
                <a:latin typeface="Verdana"/>
                <a:ea typeface="Verdana"/>
              </a:rPr>
              <a:t>Nordplus </a:t>
            </a:r>
            <a:r>
              <a:rPr b="1" lang="lv-LV" sz="2900" spc="-1" strike="noStrike">
                <a:solidFill>
                  <a:srgbClr val="0b7d91"/>
                </a:solidFill>
                <a:latin typeface="Verdana"/>
                <a:ea typeface="Verdana"/>
              </a:rPr>
              <a:t>dalībvalstis un aktivitātes</a:t>
            </a:r>
            <a:endParaRPr b="0" lang="en-US" sz="2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0" name=""/>
          <p:cNvSpPr txBox="1"/>
          <p:nvPr/>
        </p:nvSpPr>
        <p:spPr>
          <a:xfrm>
            <a:off x="2280960" y="1417320"/>
            <a:ext cx="6405480" cy="47084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Dalībvalsti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Ziemeļvalstis un Baltijas valstis</a:t>
            </a:r>
            <a:r>
              <a:rPr b="0" lang="lv-LV" sz="2200" spc="-1" strike="noStrike">
                <a:solidFill>
                  <a:srgbClr val="000000"/>
                </a:solidFill>
                <a:latin typeface="Calibri"/>
                <a:ea typeface="Verdana"/>
              </a:rPr>
              <a:t>: Dānija (arī Grenlande un Fēru salas), Somija, (arī Ālandu salas), Islande, Norvēģija, Zviedrija, Latvija, Lietuva un Igaunija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75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000" spc="-1" strike="noStrike">
                <a:solidFill>
                  <a:srgbClr val="254061"/>
                </a:solidFill>
                <a:latin typeface="Verdana"/>
                <a:ea typeface="Verdana"/>
              </a:rPr>
              <a:t>Atbalstu piešķir šādiem projektu veidiem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Mobilitātē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Projekt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Sadarbības tīklie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  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Sagatavošanas vizītes </a:t>
            </a:r>
            <a:r>
              <a:rPr b="0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ir viens no Mobilitātes projektu veidiem</a:t>
            </a:r>
            <a:r>
              <a:rPr b="1" i="1" lang="lv-LV" sz="2000" spc="-1" strike="noStrike">
                <a:solidFill>
                  <a:srgbClr val="000000"/>
                </a:solidFill>
                <a:latin typeface="Verdana"/>
                <a:ea typeface="Verdana"/>
              </a:rPr>
              <a:t>!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1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2018-2022</a:t>
            </a: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3" name=""/>
          <p:cNvSpPr txBox="1"/>
          <p:nvPr/>
        </p:nvSpPr>
        <p:spPr>
          <a:xfrm>
            <a:off x="1828440" y="1243080"/>
            <a:ext cx="6977160" cy="477504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rmAutofit/>
          </a:bodyPr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gada Nordplus projektu konkursu plānots izsludināt 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0.gada 1.novembrī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(projektu iesniegšanas termiņš</a:t>
            </a:r>
            <a:r>
              <a:rPr b="1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2021.gada 1.februāris)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64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r>
              <a:rPr b="0" lang="lv-LV" sz="2600" spc="-1" strike="noStrike">
                <a:solidFill>
                  <a:srgbClr val="000000"/>
                </a:solidFill>
                <a:latin typeface="Calibri"/>
                <a:ea typeface="Verdana"/>
              </a:rPr>
              <a:t>2021.- 2022. gada konkursos paredzams uzsvars uz </a:t>
            </a:r>
            <a:r>
              <a:rPr b="1" lang="lv-LV" sz="2600" spc="-1" strike="noStrike">
                <a:solidFill>
                  <a:srgbClr val="009a00"/>
                </a:solidFill>
                <a:latin typeface="Calibri"/>
                <a:ea typeface="Verdana"/>
              </a:rPr>
              <a:t>vides, ilgtspējīgas attīstības, zaļās  ekonomikas un ar to saistīto inovāciju attīstību.</a:t>
            </a:r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Nordplus oficiālā mājas lapas adrese: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1"/>
              </a:rPr>
              <a:t>https://www.nordplusonline.org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2"/>
              </a:rPr>
              <a:t>/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lv-LV" sz="2100" spc="-1" strike="noStrike" u="sng">
                <a:solidFill>
                  <a:srgbClr val="000000"/>
                </a:solidFill>
                <a:uFillTx/>
                <a:latin typeface="Calibri"/>
                <a:ea typeface="Verdana"/>
              </a:rPr>
              <a:t>2021. gada Nordplus rokasgrāmata </a:t>
            </a: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tiks publicēta Nordplus oficiālajā mājas lapā pēc  2021. gada konkursa izsludināšanas.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70000"/>
              </a:lnSpc>
              <a:spcBef>
                <a:spcPts val="524"/>
              </a:spcBef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0" lang="lv-LV" sz="2100" spc="-1" strike="noStrike">
                <a:solidFill>
                  <a:srgbClr val="000000"/>
                </a:solidFill>
                <a:latin typeface="Calibri"/>
                <a:ea typeface="Verdana"/>
              </a:rPr>
              <a:t>2020.gada Nordplus rokasgrāmata (angļu valodā) pieejama: </a:t>
            </a:r>
            <a:r>
              <a:rPr b="0" lang="lv-LV" sz="2100" spc="-1" strike="noStrike" u="sng">
                <a:solidFill>
                  <a:srgbClr val="0000ff"/>
                </a:solidFill>
                <a:uFillTx/>
                <a:latin typeface="Calibri"/>
                <a:ea typeface="Verdana"/>
                <a:hlinkClick r:id="rId3"/>
              </a:rPr>
              <a:t>https://www.nordplusonline.org/How-to-apply/HANDBOOK#pdf_fram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4" name="Picture 3" descr=""/>
          <p:cNvPicPr/>
          <p:nvPr/>
        </p:nvPicPr>
        <p:blipFill>
          <a:blip r:embed="rId4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2603160" y="458280"/>
            <a:ext cx="6095880" cy="128268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19. gada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sagatavošanas vizīšu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konkursa rezultāti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46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47" name=""/>
          <p:cNvGraphicFramePr/>
          <p:nvPr/>
        </p:nvGraphicFramePr>
        <p:xfrm>
          <a:off x="1082520" y="2300400"/>
          <a:ext cx="7755120" cy="3205080"/>
        </p:xfrm>
        <a:graphic>
          <a:graphicData uri="http://schemas.openxmlformats.org/drawingml/2006/table">
            <a:tbl>
              <a:tblPr/>
              <a:tblGrid>
                <a:gridCol w="2109960"/>
                <a:gridCol w="1257120"/>
                <a:gridCol w="1573200"/>
                <a:gridCol w="1249560"/>
                <a:gridCol w="1565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no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visām dalībvalstīm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iesnieg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atvijas pieteicēju  apstiprinātie projekti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60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6028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2 (7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0000"/>
                          </a:solidFill>
                          <a:latin typeface="Calibri"/>
                          <a:ea typeface="Calibri"/>
                        </a:rPr>
                        <a:t>1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5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8" name="Rectangle 41"/>
          <p:cNvSpPr/>
          <p:nvPr/>
        </p:nvSpPr>
        <p:spPr>
          <a:xfrm>
            <a:off x="4822920" y="-3960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/>
          </p:nvPr>
        </p:nvSpPr>
        <p:spPr>
          <a:xfrm>
            <a:off x="294840" y="6046920"/>
            <a:ext cx="2163960" cy="728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3960" rIns="93960" tIns="46800" bIns="46800" anchor="t">
            <a:normAutofit/>
          </a:bodyPr>
          <a:p>
            <a:pPr indent="0">
              <a:spcBef>
                <a:spcPts val="825"/>
              </a:spcBef>
              <a:buNone/>
              <a:tabLst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endParaRPr b="0" lang="lv-LV" sz="1000" spc="-1" strike="noStrike">
              <a:solidFill>
                <a:srgbClr val="000000"/>
              </a:solidFill>
              <a:latin typeface="Verdana"/>
              <a:ea typeface="Verdana"/>
            </a:endParaRPr>
          </a:p>
        </p:txBody>
      </p:sp>
      <p:sp>
        <p:nvSpPr>
          <p:cNvPr id="750" name="Slide Number Placeholder 5"/>
          <p:cNvSpPr/>
          <p:nvPr/>
        </p:nvSpPr>
        <p:spPr>
          <a:xfrm>
            <a:off x="8534520" y="6324480"/>
            <a:ext cx="30456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960" rIns="9396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fld id="{2042E481-D2D5-47B8-8F0E-A060D02E3493}" type="slidenum">
              <a:rPr b="0" lang="en-US" sz="1000" spc="-1" strike="noStrike">
                <a:solidFill>
                  <a:srgbClr val="898989"/>
                </a:solidFill>
                <a:latin typeface="Verdan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2020.gada projektu konkursa rezultāti </a:t>
            </a:r>
            <a:r>
              <a:rPr b="1" lang="lv-LV" sz="25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visās dalībvalstīs 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752" name=""/>
          <p:cNvGraphicFramePr/>
          <p:nvPr/>
        </p:nvGraphicFramePr>
        <p:xfrm>
          <a:off x="196920" y="1981080"/>
          <a:ext cx="8727840" cy="3600720"/>
        </p:xfrm>
        <a:graphic>
          <a:graphicData uri="http://schemas.openxmlformats.org/drawingml/2006/table">
            <a:tbl>
              <a:tblPr/>
              <a:tblGrid>
                <a:gridCol w="1476360"/>
                <a:gridCol w="977760"/>
                <a:gridCol w="1027080"/>
                <a:gridCol w="1244880"/>
                <a:gridCol w="1245960"/>
                <a:gridCol w="1557360"/>
                <a:gridCol w="1198440"/>
              </a:tblGrid>
              <a:tr h="7365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akšprogramma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u pieteikum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tbalstītie no iesniegtajiem, %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prasītais finansējums  (milj. eiro)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ansējums (milj. eiro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šķirtais fin., %  no pieprasīt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 126 1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996 274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4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 594 20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 281 77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5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2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 761 80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 233 420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 596 50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977 713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8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02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9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453 367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35 675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%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84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3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72%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 532 072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0 224 86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19080" rIns="19080" tIns="19080" bIns="1908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spcAft>
                          <a:spcPts val="799"/>
                        </a:spcAft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8%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19080" marR="1908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2603160" y="458640"/>
            <a:ext cx="609588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500" spc="-1" strike="noStrike" u="sng">
                <a:solidFill>
                  <a:srgbClr val="009a00"/>
                </a:solidFill>
                <a:uFillTx/>
                <a:latin typeface="Verdana"/>
                <a:ea typeface="Verdana"/>
              </a:rPr>
              <a:t>2020. </a:t>
            </a:r>
            <a:r>
              <a:rPr b="1" lang="lv-LV" sz="25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</a:t>
            </a:r>
            <a:r>
              <a:rPr b="1" lang="nb-NO" sz="25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endParaRPr b="0" lang="en-US" sz="25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4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5" name=""/>
          <p:cNvGraphicFramePr/>
          <p:nvPr/>
        </p:nvGraphicFramePr>
        <p:xfrm>
          <a:off x="1090440" y="1658880"/>
          <a:ext cx="7755120" cy="3989520"/>
        </p:xfrm>
        <a:graphic>
          <a:graphicData uri="http://schemas.openxmlformats.org/drawingml/2006/table">
            <a:tbl>
              <a:tblPr/>
              <a:tblGrid>
                <a:gridCol w="1378080"/>
                <a:gridCol w="1343160"/>
                <a:gridCol w="1771560"/>
                <a:gridCol w="1484280"/>
                <a:gridCol w="177804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6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8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1 133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(7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5497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5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 (33 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1 575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2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44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14 100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634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 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(5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 985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 </a:t>
                      </a: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4 (63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 142 767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2276280" y="458640"/>
            <a:ext cx="6422760" cy="1036800"/>
          </a:xfrm>
          <a:prstGeom prst="rect">
            <a:avLst/>
          </a:prstGeom>
          <a:noFill/>
          <a:ln w="0">
            <a:noFill/>
          </a:ln>
        </p:spPr>
        <p:txBody>
          <a:bodyPr lIns="93960" rIns="9396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38160"/>
                <a:tab algn="l" pos="1876320"/>
                <a:tab algn="l" pos="2814480"/>
                <a:tab algn="l" pos="3753000"/>
                <a:tab algn="l" pos="4691160"/>
                <a:tab algn="l" pos="5629320"/>
                <a:tab algn="l" pos="6567480"/>
                <a:tab algn="l" pos="7505640"/>
                <a:tab algn="l" pos="8443800"/>
                <a:tab algn="l" pos="9381960"/>
                <a:tab algn="l" pos="10320480"/>
              </a:tabLst>
            </a:pPr>
            <a:r>
              <a:rPr b="1" lang="nb-NO" sz="2800" spc="-1" strike="noStrike">
                <a:solidFill>
                  <a:srgbClr val="0b7d91"/>
                </a:solidFill>
                <a:latin typeface="Verdana"/>
                <a:ea typeface="Verdana"/>
              </a:rPr>
              <a:t>Nordplus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 </a:t>
            </a:r>
            <a:r>
              <a:rPr b="1" lang="lv-LV" sz="2800" spc="-1" strike="noStrike" u="sng">
                <a:solidFill>
                  <a:srgbClr val="0b7d91"/>
                </a:solidFill>
                <a:uFillTx/>
                <a:latin typeface="Verdana"/>
                <a:ea typeface="Verdana"/>
              </a:rPr>
              <a:t>2019. </a:t>
            </a:r>
            <a:r>
              <a:rPr b="1" lang="lv-LV" sz="2800" spc="-1" strike="noStrike">
                <a:solidFill>
                  <a:srgbClr val="0b7d91"/>
                </a:solidFill>
                <a:latin typeface="Verdana"/>
                <a:ea typeface="Verdana"/>
              </a:rPr>
              <a:t>gada projektu konkursa rezultāti Latvijā 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7" name="Picture 3" descr=""/>
          <p:cNvPicPr/>
          <p:nvPr/>
        </p:nvPicPr>
        <p:blipFill>
          <a:blip r:embed="rId1"/>
          <a:stretch/>
        </p:blipFill>
        <p:spPr>
          <a:xfrm>
            <a:off x="77760" y="5925960"/>
            <a:ext cx="2413080" cy="819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758" name=""/>
          <p:cNvGraphicFramePr/>
          <p:nvPr/>
        </p:nvGraphicFramePr>
        <p:xfrm>
          <a:off x="493560" y="1943280"/>
          <a:ext cx="8352000" cy="3895560"/>
        </p:xfrm>
        <a:graphic>
          <a:graphicData uri="http://schemas.openxmlformats.org/drawingml/2006/table">
            <a:tbl>
              <a:tblPr/>
              <a:tblGrid>
                <a:gridCol w="1316160"/>
                <a:gridCol w="1614600"/>
                <a:gridCol w="1908000"/>
                <a:gridCol w="1596960"/>
                <a:gridCol w="1916280"/>
              </a:tblGrid>
              <a:tr h="10429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rogrammas veid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Iesniegtie projekti (koordinatori no LV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pstiprinātie projekti (no iesniegtajiem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LV koordinēto apstiprināto projektu budžets (EUR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ā partneri no LV citu valstu koordinētos projektos piedalā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d9d9d9"/>
                    </a:solidFill>
                  </a:tcPr>
                </a:tc>
              </a:tr>
              <a:tr h="57132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Jaunieš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7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2  (71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94 549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47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Augstākās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 (62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00 918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Pieaugušo izglītīb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6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  (38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31 43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1 organizācija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Horizontālā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  (67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82 27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24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6988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Ziemeļvalstu valodu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   (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0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 organizācijas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85840"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Kopā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58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33 (56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r"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1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609 167,00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07000"/>
                        </a:lnSpc>
                        <a:tabLst>
                          <a:tab algn="l" pos="0"/>
                          <a:tab algn="l" pos="938160"/>
                          <a:tab algn="l" pos="1876320"/>
                          <a:tab algn="l" pos="2814480"/>
                          <a:tab algn="l" pos="3753000"/>
                          <a:tab algn="l" pos="4691160"/>
                          <a:tab algn="l" pos="5629320"/>
                          <a:tab algn="l" pos="6567480"/>
                          <a:tab algn="l" pos="7505640"/>
                          <a:tab algn="l" pos="8443800"/>
                          <a:tab algn="l" pos="9381960"/>
                          <a:tab algn="l" pos="10320480"/>
                        </a:tabLst>
                      </a:pPr>
                      <a:r>
                        <a:rPr b="0" lang="lv-LV" sz="1600" spc="-1" strike="noStrike">
                          <a:solidFill>
                            <a:srgbClr val="002060"/>
                          </a:solidFill>
                          <a:latin typeface="Calibri"/>
                          <a:ea typeface="Calibri"/>
                        </a:rPr>
                        <a:t> 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20T14:46:47Z</dcterms:created>
  <dc:creator>Dagnija</dc:creator>
  <dc:description/>
  <dc:language>en-US</dc:language>
  <cp:lastModifiedBy>Linards Deidulis</cp:lastModifiedBy>
  <cp:lastPrinted>2019-09-16T10:27:40Z</cp:lastPrinted>
  <dcterms:modified xsi:type="dcterms:W3CDTF">2020-09-08T07:45:11Z</dcterms:modified>
  <cp:revision>184</cp:revision>
  <dc:subject/>
  <dc:title>PowerPoint Presentation</dc:title>
</cp:coreProperties>
</file>